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873-5751-4816-8208-8ABE2B7A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072-93CA-4292-8054-25C922B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79C-AFEF-4A8E-9D7B-FFE2FF07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30-9EA3-4D97-8248-6A7347EA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823-7217-4362-9E2C-01F3B17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58C-9EC0-4BE0-9F10-5CFAEBD4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4AC-F761-44D0-9D8C-B63C0EBE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139-E54A-46D2-9C09-F51A1CAD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7B7-C78C-42EF-9403-9656114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B16-AD9E-438E-BCA9-6E0262C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C34-2DC4-4326-84AF-EFDB7EF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1BB-89A7-46B3-B86C-F3A74A8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6CF-EF02-48E9-8394-44EDC0FE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Jo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segurança,a falta de dialo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os pais a pressão para que o menino jamais negue o sexo, ou o preconceito que uma menina carrega uma camisinha na bolsa pode sofrer.....São muitos os fatores que tornam os adolecentes tão vulneraveis a epidemia..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7:59:19Z</dcterms:created>
  <dc:creator>Escola</dc:creator>
  <dc:description/>
  <dc:language>en-US</dc:language>
  <cp:lastModifiedBy>Escola</cp:lastModifiedBy>
  <dcterms:modified xsi:type="dcterms:W3CDTF">2010-04-06T18:12:41Z</dcterms:modified>
  <cp:revision>2</cp:revision>
  <dc:subject/>
  <dc:title> Jovens</dc:title>
</cp:coreProperties>
</file>